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1B16-F812-457B-AB4F-E5E4441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798-79B2-4D57-AE9F-2EB06F2A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A439-F8FD-4A49-AC8F-3DEEE9B0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C766-6AFB-41A4-9038-88EFEF41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EC1E-D0F4-484A-A8CF-6540FB79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BF2-E81F-45E6-A1C3-2E5EAE3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6FC2-9C12-44B7-8A64-5D6F6E4E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16E8-0A94-4F0B-B7FA-8B385242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24DE-E1B2-40D9-8567-91C75EA0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443D-25B8-44BC-8B75-7CD5F837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2C78-51AD-42F9-A23E-74B7B08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85A-7792-40C0-B38B-BB6B7702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E026-DC9F-411B-B7DD-AD01D2D4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BB11-D194-421A-8EFE-1501C10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DA6C-D1DB-4CF4-B347-A6BA770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342-8765-4708-BA09-BB26F94F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C218-4F44-4C53-AA43-B3F9D69E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7F7-BF0B-4336-941F-29E340F6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D7C-0CA0-49FB-A179-EC6CABD5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E07-5201-4684-9B87-F7CED29C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AAB-1B35-497D-B635-B43CC501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8D5-CC18-4CFE-A828-220D0BD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791-E945-4591-8DC5-54D91D7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332-2E1B-48F9-98AD-66A991A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D0AA-2239-4A1E-8FAF-70879651CC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3817-9F0D-4CF6-B0BF-0CF71786469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92376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67480" y="2286000"/>
            <a:ext cx="924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yside School is Falling Dow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ries of Unfortunate Events: Book 13 The E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uble digit 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zz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stery box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b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class part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the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690640"/>
            <a:ext cx="3809880" cy="284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ying att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listen better by being qu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rite neater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pay attention more by focusing on what we are doing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7:10:27Z</dcterms:modified>
  <cp:revision>29</cp:revision>
  <dc:subject/>
  <dc:title>Welcome Mom and Dad!</dc:title>
</cp:coreProperties>
</file>